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EF2-4C4E-442B-AA7B-345C9D6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9FB-4836-4544-930D-EE0615E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106-DAAC-4AF9-B2B4-739D02CC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A4D-0422-4E12-A7F2-6F66149D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6E4-E19C-438E-ABBB-43B289E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554-88F2-4BAE-9F98-09E6514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790-C592-4C9B-9B15-F669F0B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B3E-EDF2-49E5-92B7-993B66A6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C31-0E41-4135-ABE4-50D209EB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5D-16DB-4B5E-B162-49A74C6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673-23A9-48DA-B94C-633B51B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283-0D97-4A74-8C45-CA828A2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9B1-E7D2-489E-BE88-45DA8DA0F5F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9 Ako vtáča spokojn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táča spokojné je v hniezde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hoc aj vietor duje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my tiež nemusíme báť sa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keď je s nami nebies Vlád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h nás mannou z neba sý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 neho sme pred zlom skryt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nás svojou rukou chrán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bdarúva po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keď bolesť srdce mu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nás dôverovať uč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ší v žiali, slzy stier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zahynie naša 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vojho Pána miluj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poliehať sa naňho smie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ďaleko on nikdy nie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i nám berie a či d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milovať nás neprestáv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etko iba na to slúž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že nás k sebe doviesť túži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7:45Z</dcterms:modified>
  <cp:revision>93</cp:revision>
  <dc:subject/>
  <dc:title>Je veľký náš Pán, on slávy je Kráľ Nech do všetkých strán  spev vrúcnych znie chvál.</dc:title>
</cp:coreProperties>
</file>